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7.jpeg" ContentType="image/jpeg"/>
  <Override PartName="/ppt/media/image4.pct" ContentType="image/x-pict"/>
  <Override PartName="/ppt/media/image5.pct" ContentType="image/x-pict"/>
  <Override PartName="/ppt/media/image6.jpeg" ContentType="image/jpeg"/>
  <Override PartName="/ppt/media/image8.png" ContentType="image/png"/>
  <Override PartName="/ppt/media/image9.pct" ContentType="image/x-pict"/>
  <Override PartName="/ppt/media/image1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F69-D9CD-4128-BF11-081C8C9F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883-FA8B-4A49-97DE-F48DED8E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001-EA2F-417C-B9B9-CAB80889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ED0-0B0D-4922-A274-51285BFC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245-9180-4FA1-AF16-FBD896D5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8A9-83A4-4655-B2DC-C32BB17D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666-1259-478E-A8C4-AD9F81F2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04A-705B-45B8-95C3-1B7699A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513-8195-4702-B26C-B65121EA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7A8-5E38-4912-BF06-46C87C5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124-F75A-443A-9CC9-EFC6FE25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9FB-6C20-45D7-B6F1-EE378B0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130C-0994-4737-9964-9CFB7AB6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onic.net/~nbs/projects/anthro201/exper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pedigreequery.com/seabiscuit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bs.org/wnet/soundandfury/film/index.html" TargetMode="Externa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techapps.net/interactives/pepperMoths.swf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Motivating Life Science Students with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0574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halkboard"/>
              </a:rPr>
              <a:t>Karen Beni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halkboard"/>
              </a:rPr>
              <a:t>Scienc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halkboard"/>
              </a:rPr>
              <a:t>Branciforte Midd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halkboard"/>
              </a:rPr>
              <a:t>Santa Cruz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benitez@sccs.santacruz.k12.ca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Cell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ne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/14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209680"/>
            <a:ext cx="6172200" cy="4343400"/>
          </a:xfrm>
          <a:prstGeom prst="ellipse">
            <a:avLst/>
          </a:prstGeom>
          <a:solidFill>
            <a:srgbClr val="d3fcff"/>
          </a:solidFill>
          <a:ln w="93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73440" y="3581280"/>
            <a:ext cx="1447920" cy="1219320"/>
          </a:xfrm>
          <a:prstGeom prst="donut">
            <a:avLst>
              <a:gd name="adj" fmla="val 25000"/>
            </a:avLst>
          </a:prstGeom>
          <a:solidFill>
            <a:srgbClr val="005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30640" y="3949560"/>
            <a:ext cx="546120" cy="470160"/>
          </a:xfrm>
          <a:custGeom>
            <a:avLst/>
            <a:gdLst/>
            <a:ahLst/>
            <a:rect l="l" t="t" r="r" b="b"/>
            <a:pathLst>
              <a:path w="344" h="296">
                <a:moveTo>
                  <a:pt x="48" y="152"/>
                </a:moveTo>
                <a:cubicBezTo>
                  <a:pt x="156" y="120"/>
                  <a:pt x="264" y="88"/>
                  <a:pt x="288" y="104"/>
                </a:cubicBezTo>
                <a:cubicBezTo>
                  <a:pt x="312" y="120"/>
                  <a:pt x="216" y="264"/>
                  <a:pt x="192" y="248"/>
                </a:cubicBezTo>
                <a:cubicBezTo>
                  <a:pt x="168" y="232"/>
                  <a:pt x="160" y="8"/>
                  <a:pt x="144" y="8"/>
                </a:cubicBezTo>
                <a:cubicBezTo>
                  <a:pt x="128" y="8"/>
                  <a:pt x="64" y="224"/>
                  <a:pt x="96" y="248"/>
                </a:cubicBezTo>
                <a:cubicBezTo>
                  <a:pt x="128" y="272"/>
                  <a:pt x="344" y="184"/>
                  <a:pt x="336" y="152"/>
                </a:cubicBezTo>
                <a:cubicBezTo>
                  <a:pt x="328" y="120"/>
                  <a:pt x="96" y="40"/>
                  <a:pt x="48" y="56"/>
                </a:cubicBezTo>
                <a:cubicBezTo>
                  <a:pt x="0" y="72"/>
                  <a:pt x="8" y="256"/>
                  <a:pt x="48" y="248"/>
                </a:cubicBezTo>
                <a:cubicBezTo>
                  <a:pt x="88" y="240"/>
                  <a:pt x="264" y="0"/>
                  <a:pt x="288" y="8"/>
                </a:cubicBezTo>
                <a:cubicBezTo>
                  <a:pt x="312" y="16"/>
                  <a:pt x="232" y="296"/>
                  <a:pt x="192" y="296"/>
                </a:cubicBezTo>
                <a:cubicBezTo>
                  <a:pt x="152" y="296"/>
                  <a:pt x="100" y="152"/>
                  <a:pt x="48" y="8"/>
                </a:cubicBezTo>
              </a:path>
            </a:pathLst>
          </a:custGeom>
          <a:noFill/>
          <a:ln w="9360">
            <a:solidFill>
              <a:srgbClr val="ff0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92560" y="3048120"/>
            <a:ext cx="914400" cy="30456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59440" y="3505320"/>
            <a:ext cx="53352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44640" y="4419720"/>
            <a:ext cx="60948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97320" y="5562720"/>
            <a:ext cx="68580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16240" y="6172200"/>
            <a:ext cx="304920" cy="2286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54720" y="4572000"/>
            <a:ext cx="152640" cy="2286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4520" y="2438280"/>
            <a:ext cx="152640" cy="152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96920" y="2895480"/>
            <a:ext cx="1067040" cy="457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96920" y="3048120"/>
            <a:ext cx="990720" cy="457200"/>
          </a:xfrm>
          <a:prstGeom prst="blockArc">
            <a:avLst>
              <a:gd name="adj1" fmla="val 10136350"/>
              <a:gd name="adj2" fmla="val 663650"/>
              <a:gd name="adj3" fmla="val 28282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20960" y="3276720"/>
            <a:ext cx="1218960" cy="533160"/>
          </a:xfrm>
          <a:prstGeom prst="blockArc">
            <a:avLst>
              <a:gd name="adj1" fmla="val 9880976"/>
              <a:gd name="adj2" fmla="val 919024"/>
              <a:gd name="adj3" fmla="val 24083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25520" y="39625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54120" y="4191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09520" y="46483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800" y="4724280"/>
            <a:ext cx="763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47242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654520" y="259092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03540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36576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68520" y="60958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578560" y="5181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682720" y="24382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5334120"/>
            <a:ext cx="152640" cy="75960"/>
          </a:xfrm>
          <a:prstGeom prst="flowChartConnector">
            <a:avLst/>
          </a:prstGeom>
          <a:solidFill>
            <a:srgbClr val="ff8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4165560"/>
            <a:ext cx="825480" cy="863640"/>
          </a:xfrm>
          <a:custGeom>
            <a:avLst/>
            <a:gdLst/>
            <a:ahLst/>
            <a:rect l="l" t="t" r="r" b="b"/>
            <a:pathLst>
              <a:path w="520" h="544">
                <a:moveTo>
                  <a:pt x="224" y="304"/>
                </a:moveTo>
                <a:cubicBezTo>
                  <a:pt x="264" y="340"/>
                  <a:pt x="304" y="376"/>
                  <a:pt x="272" y="400"/>
                </a:cubicBezTo>
                <a:cubicBezTo>
                  <a:pt x="240" y="424"/>
                  <a:pt x="64" y="424"/>
                  <a:pt x="32" y="448"/>
                </a:cubicBezTo>
                <a:cubicBezTo>
                  <a:pt x="0" y="472"/>
                  <a:pt x="24" y="544"/>
                  <a:pt x="80" y="544"/>
                </a:cubicBezTo>
                <a:cubicBezTo>
                  <a:pt x="136" y="544"/>
                  <a:pt x="296" y="528"/>
                  <a:pt x="368" y="448"/>
                </a:cubicBezTo>
                <a:cubicBezTo>
                  <a:pt x="440" y="368"/>
                  <a:pt x="504" y="128"/>
                  <a:pt x="512" y="64"/>
                </a:cubicBezTo>
                <a:cubicBezTo>
                  <a:pt x="520" y="0"/>
                  <a:pt x="448" y="16"/>
                  <a:pt x="416" y="64"/>
                </a:cubicBezTo>
                <a:cubicBezTo>
                  <a:pt x="384" y="112"/>
                  <a:pt x="344" y="328"/>
                  <a:pt x="320" y="352"/>
                </a:cubicBezTo>
                <a:cubicBezTo>
                  <a:pt x="296" y="376"/>
                  <a:pt x="272" y="208"/>
                  <a:pt x="272" y="208"/>
                </a:cubicBezTo>
                <a:cubicBezTo>
                  <a:pt x="272" y="208"/>
                  <a:pt x="296" y="280"/>
                  <a:pt x="320" y="352"/>
                </a:cubicBezTo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13400" y="3263760"/>
            <a:ext cx="774720" cy="901800"/>
          </a:xfrm>
          <a:custGeom>
            <a:avLst/>
            <a:gdLst/>
            <a:ahLst/>
            <a:rect l="l" t="t" r="r" b="b"/>
            <a:pathLst>
              <a:path w="488" h="568">
                <a:moveTo>
                  <a:pt x="320" y="440"/>
                </a:moveTo>
                <a:cubicBezTo>
                  <a:pt x="344" y="456"/>
                  <a:pt x="408" y="376"/>
                  <a:pt x="416" y="392"/>
                </a:cubicBezTo>
                <a:cubicBezTo>
                  <a:pt x="424" y="408"/>
                  <a:pt x="360" y="512"/>
                  <a:pt x="368" y="536"/>
                </a:cubicBezTo>
                <a:cubicBezTo>
                  <a:pt x="376" y="560"/>
                  <a:pt x="448" y="568"/>
                  <a:pt x="464" y="536"/>
                </a:cubicBezTo>
                <a:cubicBezTo>
                  <a:pt x="480" y="504"/>
                  <a:pt x="488" y="400"/>
                  <a:pt x="464" y="344"/>
                </a:cubicBezTo>
                <a:cubicBezTo>
                  <a:pt x="440" y="288"/>
                  <a:pt x="336" y="240"/>
                  <a:pt x="320" y="200"/>
                </a:cubicBezTo>
                <a:cubicBezTo>
                  <a:pt x="304" y="160"/>
                  <a:pt x="384" y="136"/>
                  <a:pt x="368" y="104"/>
                </a:cubicBezTo>
                <a:cubicBezTo>
                  <a:pt x="352" y="72"/>
                  <a:pt x="256" y="16"/>
                  <a:pt x="224" y="8"/>
                </a:cubicBezTo>
                <a:cubicBezTo>
                  <a:pt x="192" y="0"/>
                  <a:pt x="168" y="40"/>
                  <a:pt x="176" y="56"/>
                </a:cubicBezTo>
                <a:cubicBezTo>
                  <a:pt x="184" y="72"/>
                  <a:pt x="272" y="80"/>
                  <a:pt x="272" y="104"/>
                </a:cubicBezTo>
                <a:cubicBezTo>
                  <a:pt x="272" y="128"/>
                  <a:pt x="208" y="200"/>
                  <a:pt x="176" y="200"/>
                </a:cubicBezTo>
                <a:cubicBezTo>
                  <a:pt x="144" y="200"/>
                  <a:pt x="104" y="112"/>
                  <a:pt x="80" y="104"/>
                </a:cubicBezTo>
                <a:cubicBezTo>
                  <a:pt x="56" y="96"/>
                  <a:pt x="0" y="120"/>
                  <a:pt x="32" y="152"/>
                </a:cubicBezTo>
                <a:cubicBezTo>
                  <a:pt x="64" y="184"/>
                  <a:pt x="224" y="256"/>
                  <a:pt x="272" y="296"/>
                </a:cubicBezTo>
                <a:cubicBezTo>
                  <a:pt x="320" y="336"/>
                  <a:pt x="296" y="424"/>
                  <a:pt x="320" y="440"/>
                </a:cubicBezTo>
                <a:close/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920" y="3594240"/>
            <a:ext cx="317520" cy="76176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200" y="280"/>
                </a:moveTo>
                <a:cubicBezTo>
                  <a:pt x="152" y="296"/>
                  <a:pt x="104" y="312"/>
                  <a:pt x="104" y="280"/>
                </a:cubicBezTo>
                <a:cubicBezTo>
                  <a:pt x="104" y="248"/>
                  <a:pt x="200" y="128"/>
                  <a:pt x="200" y="88"/>
                </a:cubicBezTo>
                <a:cubicBezTo>
                  <a:pt x="200" y="48"/>
                  <a:pt x="136" y="0"/>
                  <a:pt x="104" y="40"/>
                </a:cubicBezTo>
                <a:cubicBezTo>
                  <a:pt x="72" y="80"/>
                  <a:pt x="16" y="256"/>
                  <a:pt x="8" y="328"/>
                </a:cubicBezTo>
                <a:cubicBezTo>
                  <a:pt x="0" y="400"/>
                  <a:pt x="24" y="464"/>
                  <a:pt x="56" y="472"/>
                </a:cubicBezTo>
                <a:cubicBezTo>
                  <a:pt x="88" y="480"/>
                  <a:pt x="176" y="392"/>
                  <a:pt x="200" y="376"/>
                </a:cubicBezTo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876920"/>
            <a:ext cx="76320" cy="7596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76920"/>
            <a:ext cx="76320" cy="7596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724280"/>
            <a:ext cx="76320" cy="7632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495680"/>
            <a:ext cx="75960" cy="7632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95264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09680"/>
            <a:ext cx="38124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4956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219320" y="4572000"/>
            <a:ext cx="76176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7520" y="464832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97320" y="4648320"/>
            <a:ext cx="60984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78720" y="23623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11520" y="2590920"/>
            <a:ext cx="457200" cy="761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280" y="548640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311120" y="5334120"/>
            <a:ext cx="99072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23760" y="582948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4648320"/>
            <a:ext cx="228600" cy="1143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1920" y="304812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16640" y="3276360"/>
            <a:ext cx="762120" cy="685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83800" y="533412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84160" y="4572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352680" y="4419720"/>
            <a:ext cx="60984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49960" y="3352680"/>
            <a:ext cx="5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11520" y="3581280"/>
            <a:ext cx="99072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4680" y="1943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92400" y="2133720"/>
            <a:ext cx="106668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743200"/>
            <a:ext cx="7010640" cy="3048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3581280"/>
            <a:ext cx="1447920" cy="1219320"/>
          </a:xfrm>
          <a:prstGeom prst="donut">
            <a:avLst>
              <a:gd name="adj" fmla="val 25000"/>
            </a:avLst>
          </a:prstGeom>
          <a:solidFill>
            <a:srgbClr val="005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30640" y="3949560"/>
            <a:ext cx="546120" cy="470160"/>
          </a:xfrm>
          <a:custGeom>
            <a:avLst/>
            <a:gdLst/>
            <a:ahLst/>
            <a:rect l="l" t="t" r="r" b="b"/>
            <a:pathLst>
              <a:path w="344" h="296">
                <a:moveTo>
                  <a:pt x="48" y="152"/>
                </a:moveTo>
                <a:cubicBezTo>
                  <a:pt x="156" y="120"/>
                  <a:pt x="264" y="88"/>
                  <a:pt x="288" y="104"/>
                </a:cubicBezTo>
                <a:cubicBezTo>
                  <a:pt x="312" y="120"/>
                  <a:pt x="216" y="264"/>
                  <a:pt x="192" y="248"/>
                </a:cubicBezTo>
                <a:cubicBezTo>
                  <a:pt x="168" y="232"/>
                  <a:pt x="160" y="8"/>
                  <a:pt x="144" y="8"/>
                </a:cubicBezTo>
                <a:cubicBezTo>
                  <a:pt x="128" y="8"/>
                  <a:pt x="64" y="224"/>
                  <a:pt x="96" y="248"/>
                </a:cubicBezTo>
                <a:cubicBezTo>
                  <a:pt x="128" y="272"/>
                  <a:pt x="344" y="184"/>
                  <a:pt x="336" y="152"/>
                </a:cubicBezTo>
                <a:cubicBezTo>
                  <a:pt x="328" y="120"/>
                  <a:pt x="96" y="40"/>
                  <a:pt x="48" y="56"/>
                </a:cubicBezTo>
                <a:cubicBezTo>
                  <a:pt x="0" y="72"/>
                  <a:pt x="8" y="256"/>
                  <a:pt x="48" y="248"/>
                </a:cubicBezTo>
                <a:cubicBezTo>
                  <a:pt x="88" y="240"/>
                  <a:pt x="264" y="0"/>
                  <a:pt x="288" y="8"/>
                </a:cubicBezTo>
                <a:cubicBezTo>
                  <a:pt x="312" y="16"/>
                  <a:pt x="232" y="296"/>
                  <a:pt x="192" y="296"/>
                </a:cubicBezTo>
                <a:cubicBezTo>
                  <a:pt x="152" y="296"/>
                  <a:pt x="100" y="152"/>
                  <a:pt x="48" y="8"/>
                </a:cubicBezTo>
              </a:path>
            </a:pathLst>
          </a:custGeom>
          <a:noFill/>
          <a:ln w="9360">
            <a:solidFill>
              <a:srgbClr val="ff0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92560" y="3048120"/>
            <a:ext cx="914400" cy="30456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44640" y="4419720"/>
            <a:ext cx="60948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5562720"/>
            <a:ext cx="304920" cy="2286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96920" y="2895480"/>
            <a:ext cx="1067040" cy="457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96920" y="3048120"/>
            <a:ext cx="990720" cy="457200"/>
          </a:xfrm>
          <a:prstGeom prst="blockArc">
            <a:avLst>
              <a:gd name="adj1" fmla="val 10136350"/>
              <a:gd name="adj2" fmla="val 663650"/>
              <a:gd name="adj3" fmla="val 28282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20960" y="3276720"/>
            <a:ext cx="1218960" cy="533160"/>
          </a:xfrm>
          <a:prstGeom prst="blockArc">
            <a:avLst>
              <a:gd name="adj1" fmla="val 9880976"/>
              <a:gd name="adj2" fmla="val 919024"/>
              <a:gd name="adj3" fmla="val 24083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25520" y="39625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54120" y="4191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09880" y="55623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5920" y="3594240"/>
            <a:ext cx="317520" cy="76176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200" y="280"/>
                </a:moveTo>
                <a:cubicBezTo>
                  <a:pt x="152" y="296"/>
                  <a:pt x="104" y="312"/>
                  <a:pt x="104" y="280"/>
                </a:cubicBezTo>
                <a:cubicBezTo>
                  <a:pt x="104" y="248"/>
                  <a:pt x="200" y="128"/>
                  <a:pt x="200" y="88"/>
                </a:cubicBezTo>
                <a:cubicBezTo>
                  <a:pt x="200" y="48"/>
                  <a:pt x="136" y="0"/>
                  <a:pt x="104" y="40"/>
                </a:cubicBezTo>
                <a:cubicBezTo>
                  <a:pt x="72" y="80"/>
                  <a:pt x="16" y="256"/>
                  <a:pt x="8" y="328"/>
                </a:cubicBezTo>
                <a:cubicBezTo>
                  <a:pt x="0" y="400"/>
                  <a:pt x="24" y="464"/>
                  <a:pt x="56" y="472"/>
                </a:cubicBezTo>
                <a:cubicBezTo>
                  <a:pt x="88" y="480"/>
                  <a:pt x="176" y="392"/>
                  <a:pt x="200" y="376"/>
                </a:cubicBezTo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195264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2209680"/>
            <a:ext cx="38124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4956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4572000"/>
            <a:ext cx="76176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78720" y="23623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Smooth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590920"/>
            <a:ext cx="457200" cy="761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3040" y="51814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84160" y="4572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4680" y="1943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4419720"/>
            <a:ext cx="60984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590920"/>
            <a:ext cx="7467480" cy="0"/>
          </a:xfrm>
          <a:prstGeom prst="line">
            <a:avLst/>
          </a:prstGeom>
          <a:ln w="381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590920"/>
            <a:ext cx="0" cy="3429000"/>
          </a:xfrm>
          <a:prstGeom prst="line">
            <a:avLst/>
          </a:prstGeom>
          <a:ln w="381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6019920"/>
            <a:ext cx="7467480" cy="0"/>
          </a:xfrm>
          <a:prstGeom prst="line">
            <a:avLst/>
          </a:prstGeom>
          <a:ln w="381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2590920"/>
            <a:ext cx="0" cy="3429000"/>
          </a:xfrm>
          <a:prstGeom prst="line">
            <a:avLst/>
          </a:prstGeom>
          <a:ln w="381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2209680"/>
            <a:ext cx="22860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9040" y="64008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048120" y="6019920"/>
            <a:ext cx="0" cy="380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895480"/>
            <a:ext cx="2590920" cy="27432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743200"/>
              <a:gd name="textAreaBottom" fmla="*/ 2616840 h 2743200"/>
            </a:gdLst>
            <a:ahLst/>
            <a:rect l="textAreaLeft" t="textAreaTop" r="textAreaRight" b="textAreaBottom"/>
            <a:pathLst>
              <a:path w="21600" h="22869">
                <a:moveTo>
                  <a:pt x="3600" y="0"/>
                </a:moveTo>
                <a:arcTo wR="3600" hR="3600" stAng="16200000" swAng="-5400000"/>
                <a:lnTo>
                  <a:pt x="0" y="19269"/>
                </a:lnTo>
                <a:arcTo wR="3600" hR="3600" stAng="10800000" swAng="-5400000"/>
                <a:lnTo>
                  <a:pt x="18000" y="22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59440" y="3505320"/>
            <a:ext cx="53352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334120"/>
            <a:ext cx="68580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4343400"/>
            <a:ext cx="152640" cy="2286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743200"/>
            <a:ext cx="152280" cy="15228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03540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86728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191120"/>
            <a:ext cx="825480" cy="863640"/>
          </a:xfrm>
          <a:custGeom>
            <a:avLst/>
            <a:gdLst/>
            <a:ahLst/>
            <a:rect l="l" t="t" r="r" b="b"/>
            <a:pathLst>
              <a:path w="520" h="544">
                <a:moveTo>
                  <a:pt x="224" y="304"/>
                </a:moveTo>
                <a:cubicBezTo>
                  <a:pt x="264" y="340"/>
                  <a:pt x="304" y="376"/>
                  <a:pt x="272" y="400"/>
                </a:cubicBezTo>
                <a:cubicBezTo>
                  <a:pt x="240" y="424"/>
                  <a:pt x="64" y="424"/>
                  <a:pt x="32" y="448"/>
                </a:cubicBezTo>
                <a:cubicBezTo>
                  <a:pt x="0" y="472"/>
                  <a:pt x="24" y="544"/>
                  <a:pt x="80" y="544"/>
                </a:cubicBezTo>
                <a:cubicBezTo>
                  <a:pt x="136" y="544"/>
                  <a:pt x="296" y="528"/>
                  <a:pt x="368" y="448"/>
                </a:cubicBezTo>
                <a:cubicBezTo>
                  <a:pt x="440" y="368"/>
                  <a:pt x="504" y="128"/>
                  <a:pt x="512" y="64"/>
                </a:cubicBezTo>
                <a:cubicBezTo>
                  <a:pt x="520" y="0"/>
                  <a:pt x="448" y="16"/>
                  <a:pt x="416" y="64"/>
                </a:cubicBezTo>
                <a:cubicBezTo>
                  <a:pt x="384" y="112"/>
                  <a:pt x="344" y="328"/>
                  <a:pt x="320" y="352"/>
                </a:cubicBezTo>
                <a:cubicBezTo>
                  <a:pt x="296" y="376"/>
                  <a:pt x="272" y="208"/>
                  <a:pt x="272" y="208"/>
                </a:cubicBezTo>
                <a:cubicBezTo>
                  <a:pt x="272" y="208"/>
                  <a:pt x="296" y="280"/>
                  <a:pt x="320" y="352"/>
                </a:cubicBezTo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3400" y="3263760"/>
            <a:ext cx="774720" cy="901800"/>
          </a:xfrm>
          <a:custGeom>
            <a:avLst/>
            <a:gdLst/>
            <a:ahLst/>
            <a:rect l="l" t="t" r="r" b="b"/>
            <a:pathLst>
              <a:path w="488" h="568">
                <a:moveTo>
                  <a:pt x="320" y="440"/>
                </a:moveTo>
                <a:cubicBezTo>
                  <a:pt x="344" y="456"/>
                  <a:pt x="408" y="376"/>
                  <a:pt x="416" y="392"/>
                </a:cubicBezTo>
                <a:cubicBezTo>
                  <a:pt x="424" y="408"/>
                  <a:pt x="360" y="512"/>
                  <a:pt x="368" y="536"/>
                </a:cubicBezTo>
                <a:cubicBezTo>
                  <a:pt x="376" y="560"/>
                  <a:pt x="448" y="568"/>
                  <a:pt x="464" y="536"/>
                </a:cubicBezTo>
                <a:cubicBezTo>
                  <a:pt x="480" y="504"/>
                  <a:pt x="488" y="400"/>
                  <a:pt x="464" y="344"/>
                </a:cubicBezTo>
                <a:cubicBezTo>
                  <a:pt x="440" y="288"/>
                  <a:pt x="336" y="240"/>
                  <a:pt x="320" y="200"/>
                </a:cubicBezTo>
                <a:cubicBezTo>
                  <a:pt x="304" y="160"/>
                  <a:pt x="384" y="136"/>
                  <a:pt x="368" y="104"/>
                </a:cubicBezTo>
                <a:cubicBezTo>
                  <a:pt x="352" y="72"/>
                  <a:pt x="256" y="16"/>
                  <a:pt x="224" y="8"/>
                </a:cubicBezTo>
                <a:cubicBezTo>
                  <a:pt x="192" y="0"/>
                  <a:pt x="168" y="40"/>
                  <a:pt x="176" y="56"/>
                </a:cubicBezTo>
                <a:cubicBezTo>
                  <a:pt x="184" y="72"/>
                  <a:pt x="272" y="80"/>
                  <a:pt x="272" y="104"/>
                </a:cubicBezTo>
                <a:cubicBezTo>
                  <a:pt x="272" y="128"/>
                  <a:pt x="208" y="200"/>
                  <a:pt x="176" y="200"/>
                </a:cubicBezTo>
                <a:cubicBezTo>
                  <a:pt x="144" y="200"/>
                  <a:pt x="104" y="112"/>
                  <a:pt x="80" y="104"/>
                </a:cubicBezTo>
                <a:cubicBezTo>
                  <a:pt x="56" y="96"/>
                  <a:pt x="0" y="120"/>
                  <a:pt x="32" y="152"/>
                </a:cubicBezTo>
                <a:cubicBezTo>
                  <a:pt x="64" y="184"/>
                  <a:pt x="224" y="256"/>
                  <a:pt x="272" y="296"/>
                </a:cubicBezTo>
                <a:cubicBezTo>
                  <a:pt x="320" y="336"/>
                  <a:pt x="296" y="424"/>
                  <a:pt x="320" y="440"/>
                </a:cubicBezTo>
                <a:close/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07520" y="464832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97320" y="4648320"/>
            <a:ext cx="60984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5400" y="556272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Ves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495680"/>
            <a:ext cx="228600" cy="1143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21920" y="304812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16640" y="3276360"/>
            <a:ext cx="762120" cy="685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9960" y="3352680"/>
            <a:ext cx="5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495680" y="3581280"/>
            <a:ext cx="99072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4876920"/>
            <a:ext cx="76320" cy="7596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4876920"/>
            <a:ext cx="76320" cy="7596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724280"/>
            <a:ext cx="76320" cy="7632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4495680"/>
            <a:ext cx="75960" cy="7632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36576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50720" y="628668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Large 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77120" y="5409720"/>
            <a:ext cx="228600" cy="8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5181480"/>
            <a:ext cx="762120" cy="228600"/>
          </a:xfrm>
          <a:prstGeom prst="flowChartTerminator">
            <a:avLst/>
          </a:prstGeom>
          <a:solidFill>
            <a:srgbClr val="2899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838080" cy="228600"/>
          </a:xfrm>
          <a:prstGeom prst="flowChartTerminator">
            <a:avLst/>
          </a:prstGeom>
          <a:solidFill>
            <a:srgbClr val="2899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962520"/>
            <a:ext cx="838440" cy="228600"/>
          </a:xfrm>
          <a:prstGeom prst="flowChartTerminator">
            <a:avLst/>
          </a:prstGeom>
          <a:solidFill>
            <a:srgbClr val="2899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4267080"/>
            <a:ext cx="762120" cy="228600"/>
          </a:xfrm>
          <a:prstGeom prst="flowChartTerminator">
            <a:avLst/>
          </a:prstGeom>
          <a:solidFill>
            <a:srgbClr val="2899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334120"/>
            <a:ext cx="53316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880" y="617220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 vs.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loroplast is a part of the plant cell that uses light energy to make food for the plant. It’s only in plant cells, and it’s green in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tochondria is a bean-shaped part that is in both animal and plant cells. It also makes energy for the cell. It takes body sugar and breaks it down into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Wall Vs.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are a protective case found only in plant cells. They are made of tiny fibers and enclose the cell in a rectangular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 membrane holds the organelles and keeps the cell’s shape. It’s in every cell and is made up of a double membrane of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ooth ER Vs. Rough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ooth ER is a folded membrane that is connected to the nucleus. It makes lipids and helps get rid of chemicals and poi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ER is important for making proteins with rib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0574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6765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4880" y="23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3800" y="160020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9640" y="16002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2720" y="220968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2000" y="28195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88920" y="22096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9280" y="289548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90000" y="36576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88920" y="4343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3. Smiley Face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udents work i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 a coin to determine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 Microsoft word to draw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r each trait collect data on how many students got the dominant or the recessive form of the ge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udents then graph the class data including labels and a ke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838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594320" cy="5943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92800" y="380880"/>
            <a:ext cx="4651200" cy="6019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228600"/>
            <a:ext cx="0" cy="601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746360" y="1398600"/>
          <a:ext cx="5651280" cy="45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398600"/>
                    <a:ext cx="565128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Smiley Face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Presenter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6483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Single Subject Biology credential (SJS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Masters in educational leadership (SJS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SVEF Teacher of the year (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halkboard"/>
              </a:rPr>
              <a:t>Teaching experience</a:t>
            </a: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: 7th grade Life Science/8th grade Physical Science in both Title 1 and Program Improvement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Masters ARP studied the influence of technology on classroom achie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Smiley Face Class Data </a:t>
            </a:r>
            <a:br>
              <a:rPr sz="4400"/>
            </a:br>
            <a:r>
              <a:rPr b="0" lang="en-US" sz="2000" spc="-1" strike="noStrike">
                <a:solidFill>
                  <a:srgbClr val="808080"/>
                </a:solidFill>
                <a:latin typeface="Chalkboard"/>
              </a:rPr>
              <a:t>class of 32 students (can compare to 150 stud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1676520"/>
          <a:ext cx="6858000" cy="4489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Ph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 Ph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e 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e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e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k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4. Punnett Square PP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project is done after background assignments on Mendel, Punnett Squares, and basic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write their own genetics word problems, create PPT presentations and present them to the class for other students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 Punnett Squ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685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9144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37160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2743200" cy="1339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91320" y="685800"/>
            <a:ext cx="28954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ish 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cean fish, black fish (B)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over grey fish (b). 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 black fish a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 recessive (true-breed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y fish have baby fish. Fill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 and answer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the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133720" y="2895480"/>
          <a:ext cx="5257800" cy="233676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286000" y="2209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209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200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3124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2512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3124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42512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Answer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2133720"/>
          <a:ext cx="7391160" cy="365760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1600200"/>
                <a:gridCol w="1600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 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ed Punnett 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ulldogs, purple bulldogs are dominant (B) over yellow bulldogs (b).  Two bulldogs get married and have 4 puppies.  Three of the puppies are purple and one of the puppies is yellow.  What genotype are the parents?  Fill in the punnett square and answer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ldog 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33720" y="2895480"/>
          <a:ext cx="5257800" cy="233676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266688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083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254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ldog Answer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8080" y="1981080"/>
          <a:ext cx="7772400" cy="3581280"/>
        </p:xfrm>
        <a:graphic>
          <a:graphicData uri="http://schemas.openxmlformats.org/drawingml/2006/table">
            <a:tbl>
              <a:tblPr/>
              <a:tblGrid>
                <a:gridCol w="2057400"/>
                <a:gridCol w="2114280"/>
                <a:gridCol w="1963800"/>
                <a:gridCol w="16369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EETT Technology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Enhancing Education Through Technology (EET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laptop, LCD projector, student laptop cart of 32 MacBook computers, wireless printer and internet, scanners and set of video cam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12 teachers at my school site (teams of 3 teachers), 36 teachers in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5. Mendel Pea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onic.net/~nbs/projects/anthro201/exp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is an interactive pea experiment where you can breed your own hybrid pea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create a poster of several generations of their pea plants and show the Punnett Squares explaining their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Chalkboard"/>
              </a:rPr>
              <a:t>6. Seabiscuit Pedigree Pro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http://www.pedigreequery.com/seabis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Prior to this assignment I have introduced the concept of pedigrees with several examp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research the pedigree of the racehorse Seabiscuit and create a pedigree chart following a particular trait (successful racing for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Seabiscuit Pedigre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609560"/>
            <a:ext cx="1828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8080"/>
                </a:solidFill>
                <a:uFillTx/>
                <a:latin typeface="Arial"/>
              </a:rPr>
              <a:t>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emale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Male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2133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05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29718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5181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bis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4191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9625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7242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4038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3505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O’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 Bis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7180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2971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17220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0481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0481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2133720"/>
            <a:ext cx="510516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ccessful Racing Female/Male (won more than $10,000)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24382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2438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62360" y="23623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523880"/>
            <a:ext cx="5943600" cy="1219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ng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3352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sk B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Cochlear Implant Pedigree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7720" y="2209320"/>
            <a:ext cx="7543800" cy="403884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is project is done at the end of the genetics unit after studying pedigrees and includes the topic of ethics in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udents watch the </a:t>
            </a:r>
            <a:r>
              <a:rPr b="0" i="1" lang="en-US" sz="2400" spc="-1" strike="noStrike">
                <a:solidFill>
                  <a:srgbClr val="000000"/>
                </a:solidFill>
                <a:latin typeface="Chalkboard"/>
              </a:rPr>
              <a:t>Sound and Fury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documentary movie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http://www.pbs.org/wnet/soundandfury/film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udents complete a three generation pedigree of the deaf family profiled in the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nally students write a persuasive essay advising the parents of a deaf infant on whether or not the cochlear implant is the right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Deaf Family Pedigre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19520" y="4572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4572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4495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4495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3429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3352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2057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0574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45720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34290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33526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057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5812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5627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9718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057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2057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2940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5029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49528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5029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4592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3505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49528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r s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1320" y="4983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4983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343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S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2514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S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2514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2514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05720" y="2514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1523880"/>
            <a:ext cx="1828800" cy="7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8080"/>
                </a:solidFill>
                <a:uFillTx/>
                <a:latin typeface="Arial"/>
              </a:rPr>
              <a:t>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emale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Male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2057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2057400"/>
            <a:ext cx="510516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eaf Female/Male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ochlear Implant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0" y="2362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2362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600" y="2286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4495680"/>
            <a:ext cx="380880" cy="38124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2590920"/>
            <a:ext cx="152640" cy="15228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1447920"/>
            <a:ext cx="2514600" cy="15238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0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8. Peppered Moth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http://www.techapps.net/interactives/pepperMoths.s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Volunteer students act as predatory birds preying on peppered moths.  The class collects data on moth survival rates for the pre and post pollution forest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udents graph and analyze the data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dditional assignments can include the life cycle of the moth and the history of the original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41664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9. Plant iMovi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n groups, students grow plants (radishes) and record growth/weight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take daily photos or video of plants on a daily basis in order to make visual record of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 graph/analyze data make iMovie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halkboard"/>
              </a:rPr>
              <a:t>Student Plant Mov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Macintosh HD:Users:karenbenitez:Desktop:student examples for CLMS:Plant_Norbert.mo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Masters Action Research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6483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Masters Cohort group included science, language arts and math tea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Technology was most successful in the science classro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Compared technology vs. non-technology assig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Completion rate (95% vs. 7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Average grade (15% better for tech. assig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Better behavior and more fo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Chalkboard"/>
              </a:rPr>
              <a:t>10. DNA Comic Life Newslet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create a candy model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use Comic Life software to create a newsletter explaining how they have discovered the structure of DNA.  The newsletter includes base pairing rules, the importance of DNA to living things, drawings and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5123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General Technology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United Streaming- science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ttp://streaming.discoveryeducation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BrainPop - science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ww.brainpo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nkquest -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cial networking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ttp://www.thinkquest.org/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Technology in the classroom</a:t>
            </a: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6483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nitially, technology projects can take longer and/or be frustrating for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eachers do not have to be the expert on every technology used in class, students can (and will) be the technology exp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 technology to integrate Language Arts and math into science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t up procedures, routines and clear rules and expectations for students, especially when technology needs to be shared across a school si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. Fire Alive Essay (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cer and mitosis Essay (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. Cell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3. Smiley Face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4. Punnett Square PPT (with gifted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5. Mendel Pea Website/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6. Pedigree - Seabiscuit websit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7. Cochlear Implant Pedigre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8. Moth adaptation experiment/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9. Plant i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0. DNA Comic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Essays and Techn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0292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ese essays involve both internet research and basic word processing, good beginning assignments to introduce students to compu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each students to check-in/check-out computers, turn on and access software, improve word processing, and spell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rain students how and where to save their work, print and/or turn in work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n be valuable for students with NO tech.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1. 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halkboard"/>
              </a:rPr>
              <a:t>Is Fire Alive?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is assignment is done after studying the 6 characteristic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halkboard"/>
              </a:rPr>
              <a:t>Cancer and Mitosi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is assignment is done after studying mitosis and creating a flipbook of the stages of m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udents can write in class/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ype final draft including spell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agger due date of assignment with extra credit for turning in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2. Cell PowerPoin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s is a review assignment done at the end of the cells unit to prepare students for the uni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ombination of visual/graphic and written assignment will appeal to a variety of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 co-operative learn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udents can present their projects to the class reinforc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2:52:00Z</dcterms:created>
  <dc:creator>Office 2004 Test Drive User</dc:creator>
  <dc:description/>
  <dc:language>en-US</dc:language>
  <cp:lastModifiedBy>Office 2004 Test Drive User</cp:lastModifiedBy>
  <cp:lastPrinted>2008-12-02T06:49:48Z</cp:lastPrinted>
  <dcterms:modified xsi:type="dcterms:W3CDTF">2008-12-05T17:37:40Z</dcterms:modified>
  <cp:revision>105</cp:revision>
  <dc:subject/>
  <dc:title>Motivating Life Science Students with Technology</dc:title>
</cp:coreProperties>
</file>